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AC5A-E90D-4630-91C8-930D02B37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28FA-B7BD-435D-B999-9EDA6D2C7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019A-3CAE-4946-B4B3-06DBB58AF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51B8-413A-4258-8BFC-B47DF32BE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BC64-CF52-4E3E-91E1-A9FC33C06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2690-2D7E-4C25-9260-BA4606AFB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850E-E8E2-4BCB-B5A7-AD4BEF7A2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6DE2-D393-47D7-84EA-81CFC42CD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3237-247D-4244-A563-AE398FD60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115A-F909-4295-A0CA-6348E0B41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13D3-1286-4919-AA58-A1A2487AC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6A44-E8C9-484C-BD61-BC3955381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48EE0-7282-4475-8216-62E6EAEB90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139 Tak ako jeleň k žriedlu vô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ak ako jeleň k žriedlu vôd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a náhli deň čo deň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ak duša moja po teb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ôj Pane, prahne l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Je únavná tá žitia púť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mnoho na nej strát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ty sám ma, Otče, doviesť ráč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ž pred svoj Majestá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eď smútok dušu zaplaví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a v teba dúfať smiem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en tvojej, Pane, milost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voj život zveruje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d vekov nech je naveky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o všetkom stvorení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oh Otec, Syn i Svätý Duch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ždy vďačne chválený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6-08T10:20:26Z</dcterms:modified>
  <cp:revision>20</cp:revision>
  <dc:subject/>
  <dc:title>Je veľký náš Pán, on slávy je Kráľ Nech do všetkých strán  spev vrúcnych znie chvál.</dc:title>
</cp:coreProperties>
</file>